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E81A5-D7CB-4D01-BC91-C046E29D73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FF7D3-E28B-4E8D-85E1-6F1DA5619F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B500E-EB7F-4159-906C-481057ECD6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B1214-5B8A-4629-BB82-0C393E36EB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2BB04-AE3A-403B-B508-FE4D6A1188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89117-96DF-4020-A435-F18FF93401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9BACA-EE57-43C0-B12A-7762195C91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0FA6B-CEF0-476A-B075-31152B6723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53342-A490-48A8-9BED-BA7C5275F6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100E7-F633-4B20-80C9-6ABD81D245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3EE97-7527-42CA-B889-7F5B0E1A78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46744-CCBF-4F7C-BD84-D87CD1505F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2DE3-D460-4C56-8DB2-8F7E763D14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he%20real%20meaning%20of%20MPH-%20The%20Original.mp4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D3F4-B3D9-4469-93C1-3C3E989FC98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plore, Discuss, Summariz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lore materials for your topic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asons students struggle (F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Arial"/>
              </a:rPr>
              <a:t>Diagnostic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(SB, F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ffc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c000"/>
                </a:solidFill>
                <a:latin typeface="Arial"/>
              </a:rPr>
              <a:t>Intervention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(SB, F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eate a summary sheet (chart paper) of key ideas and tips for secondary teac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6B07-1B23-4AB0-ADF9-59EA688D97B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haring our Insigh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Jigs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umber off in your groups (1-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allery walk – 5 minutes /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7462800" y="6202440"/>
            <a:ext cx="312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32E6-D762-4120-8DC7-67EC336CC9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MS902454.wav" descr=""/>
          <p:cNvPicPr/>
          <p:nvPr/>
        </p:nvPicPr>
        <p:blipFill>
          <a:blip r:embed="rId1"/>
          <a:stretch/>
        </p:blipFill>
        <p:spPr>
          <a:xfrm>
            <a:off x="7432560" y="475776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86" name="Oval 21"/>
          <p:cNvSpPr/>
          <p:nvPr/>
        </p:nvSpPr>
        <p:spPr>
          <a:xfrm>
            <a:off x="6873840" y="3965400"/>
            <a:ext cx="2052720" cy="205128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22"/>
          <p:cNvSpPr/>
          <p:nvPr/>
        </p:nvSpPr>
        <p:spPr>
          <a:xfrm>
            <a:off x="6873840" y="3965400"/>
            <a:ext cx="2052720" cy="205128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4885560" y="488304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" dur="300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0000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2178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flection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back to your scary fraction stor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might you help this stud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E7DF-9FDA-4501-89C7-AA2E18DAC6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lope and Fraction Meaning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view the Pancake Problem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fraction meanings do you see in this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do they connect to each 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7F04-65C7-469D-98FD-7D8A0F374B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flect and Predic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did secondary students respond to the following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EB4F-8E19-4752-A393-B25B1074E8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 One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n an assignment, Jaime received the following scores: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ection A:          Section B:         Total: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Jaime was confused, because using what she knew ab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ractions, she didn’t think that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ow would you explain this to Jaime?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B764-1AAD-4F89-A86C-B84733E888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4"/>
              <p:cNvSpPr txBox="1"/>
              <p:nvPr/>
            </p:nvSpPr>
            <p:spPr>
              <a:xfrm>
                <a:off x="2133720" y="2362320"/>
                <a:ext cx="2538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5"/>
              <p:cNvSpPr txBox="1"/>
              <p:nvPr/>
            </p:nvSpPr>
            <p:spPr>
              <a:xfrm>
                <a:off x="4419720" y="2362320"/>
                <a:ext cx="2538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5867280" y="2362320"/>
                <a:ext cx="41940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7"/>
              <p:cNvSpPr txBox="1"/>
              <p:nvPr/>
            </p:nvSpPr>
            <p:spPr>
              <a:xfrm>
                <a:off x="4876920" y="3809880"/>
                <a:ext cx="154944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 Two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ow what you know about  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e different representations to communicate your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B38D-2626-4E02-8E87-753FFC9439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4"/>
              <p:cNvSpPr txBox="1"/>
              <p:nvPr/>
            </p:nvSpPr>
            <p:spPr>
              <a:xfrm>
                <a:off x="5715000" y="1447920"/>
                <a:ext cx="4827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5"/>
              <p:cNvSpPr txBox="1"/>
              <p:nvPr/>
            </p:nvSpPr>
            <p:spPr>
              <a:xfrm>
                <a:off x="7327800" y="1523880"/>
                <a:ext cx="45720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 Three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ive a real life example of a problem where the solution could involve dividing by 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6710-9489-4644-B0F5-535AE7C616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 Four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do you know about          ?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e diagrams, numbers, algebra, words etc. to communicate your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92F0-8098-4260-9E8F-298E56565D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4"/>
              <p:cNvSpPr txBox="1"/>
              <p:nvPr/>
            </p:nvSpPr>
            <p:spPr>
              <a:xfrm>
                <a:off x="5181480" y="1523880"/>
                <a:ext cx="7239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 Fiv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one sentence that  makes sense that includes ALL of  these words and numbers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per, fraction, simple, challenging,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D206-6E8F-4FC5-95E1-96EC3C47A2D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the opportunity to explore and disc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presentations and meanings of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nections to secondary curr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lated Gap Closing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asons students struggle with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95BB-CFC4-4CED-8DA6-CBB70F6AE5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aking Predi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misconceptions might students have when doing these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e some predi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59E0-3A94-4355-883B-C06F8D3E1F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have you noticed / lear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are your lingering wonder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04E9-5F27-4297-87DA-20F3B8F5AC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oup Norm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ideas will be listened to carefully and responded to respectfu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have a vo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questions and comments will be presented with the intent to move the collective forw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ing questions are wel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engage fully in the mo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F0B8-3A58-481E-85B4-FEA1FA22588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cary Stor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of a story from your personal teaching experience involving student misconceptions about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ner/Outer Circle – share s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5F41-2920-4CE0-BAA9-66CA3D82AF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MS902392.wav" descr=""/>
          <p:cNvPicPr/>
          <p:nvPr/>
        </p:nvPicPr>
        <p:blipFill>
          <a:blip r:embed="rId1"/>
          <a:stretch/>
        </p:blipFill>
        <p:spPr>
          <a:xfrm>
            <a:off x="7902720" y="413064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60" name="Oval 5"/>
          <p:cNvSpPr/>
          <p:nvPr/>
        </p:nvSpPr>
        <p:spPr>
          <a:xfrm>
            <a:off x="6966000" y="3338640"/>
            <a:ext cx="2052720" cy="205236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6"/>
          <p:cNvSpPr/>
          <p:nvPr/>
        </p:nvSpPr>
        <p:spPr>
          <a:xfrm>
            <a:off x="6966000" y="3338640"/>
            <a:ext cx="2052720" cy="2052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7156800" y="283536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600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600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2178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eanings and Conne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dividually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oose a fraction, and represent it in as many different ways as you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of two problems from secondary math that feature THAT fracti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3E65-A78B-4C3C-B3D6-52005EC13D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nd two people with the same fraction as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are meanings and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st to curriculum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5CF3-1AA2-40C8-9C2F-CE330FE701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Gap Clos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atch This C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2D06-59FE-4DC3-AC98-537668E14D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6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Gap Closing - Organiz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73" name="Content Placeholder 4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8248680" cy="5291280"/>
          </a:xfrm>
          <a:prstGeom prst="rect">
            <a:avLst/>
          </a:prstGeom>
          <a:ln w="0">
            <a:noFill/>
          </a:ln>
        </p:spPr>
      </p:pic>
      <p:sp>
        <p:nvSpPr>
          <p:cNvPr id="7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A856-C9BB-4587-B450-87CC486E3EB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Up-Down Arrow 5"/>
          <p:cNvSpPr/>
          <p:nvPr/>
        </p:nvSpPr>
        <p:spPr>
          <a:xfrm>
            <a:off x="1611360" y="3276720"/>
            <a:ext cx="380880" cy="76176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7575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ploring GAP Clos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e Gap Closing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Fractions Subtop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) Comp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2) Adding F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3) Subtracting Fra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3) Multiplying Fra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4) Dividing F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5) Relating Situations to Fraction Ope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0F2C-57C2-4C96-9B9C-4BCD8796647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2-07-24T14:31:11Z</dcterms:modified>
  <cp:revision>40</cp:revision>
  <dc:subject/>
  <dc:title>&lt;Title&gt;</dc:title>
</cp:coreProperties>
</file>